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7070-F7F7-4764-B0BB-2E6FA964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AAB-8681-4705-8A25-D1C591A6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6BF-AABA-48E1-BD9E-83A2F512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C1F3-E9AF-4D45-A04F-F4A44D5D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D10-E7F8-487F-ABF5-520DDECD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A00D-147B-4C59-B4EB-90EAF62D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E9E8-FD41-498B-9EAD-C1F7DAA7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63A-4EC0-4332-97E7-65446005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6D8A-A5A2-4275-B706-058C2B99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F1F3-A477-4719-B5DC-3589779C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9D4-0E3D-4E81-B4C2-79A9ADDA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1BB-53CC-4F72-9395-0921104D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8E7B-5C75-4A1B-8FD0-71A575C6C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823-7F91-49F8-A1E7-4FBA3580055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4267080" cy="2771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486400" y="762120"/>
            <a:ext cx="2343240" cy="3124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4114800"/>
            <a:ext cx="3962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“Man Kicking World, II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Viola Frey, American, 1933-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Ceram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125” x 89” x 1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4038480"/>
            <a:ext cx="380988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Large Vess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Clara Couch, American, 1921-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C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18” x 15” x 1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97800" y="152280"/>
            <a:ext cx="45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125640" y="874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7680" y="87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9080" y="61070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5320" y="5562720"/>
            <a:ext cx="78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would you like to know about the art or arti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fin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9C72-9E7D-40D4-8910-D864C6FCAF1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5943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F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4495680" cy="2921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5880" y="1143000"/>
            <a:ext cx="2305080" cy="3073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4267080"/>
            <a:ext cx="80773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Art and Social Studies:  use of materials o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Art and Geometry:  two and three dimensional sh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Art and Language Art:  artist’s purpose, narrative, descrip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, main idea, compare and contrast, oral languag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, 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:  properties of soil, natural resources,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2CAB-3D15-4EC7-A1C9-61DEBBBB186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4495680" cy="2921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5880" y="685800"/>
            <a:ext cx="2305080" cy="3073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380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2600" y="152280"/>
            <a:ext cx="48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art is made of some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9800" y="3809880"/>
            <a:ext cx="777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xample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paper, ink, pai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d, clay, metal, stone, glass, fiber, and plast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of these art objects are made of the same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the common material 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t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4BB-0042-4A61-9E4A-CB830367D18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4343400" cy="2822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5880" y="1066680"/>
            <a:ext cx="2114640" cy="2819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152280"/>
            <a:ext cx="8458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art objects are made of clay, but their appearance is very different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1960" y="3962520"/>
            <a:ext cx="817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objects were formed from we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heated i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l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oven until they were hard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e on the left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a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means the surface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en covered with a layer of colorful glassy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e on the right was not gla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AAA0-2776-40D3-BD2C-805524792D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4495680" cy="2921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19920" y="990720"/>
            <a:ext cx="2305080" cy="3073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880" y="0"/>
            <a:ext cx="859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objects made of the same material may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feel very diffe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7040" y="3962520"/>
            <a:ext cx="8003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me of the ways they look different to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imagine each would feel if you could touch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think of anything in your classroom that wou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l the same as either of these objects? What is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0AB3-3235-41F6-919A-22768398E47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267440" cy="2773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48520" y="304920"/>
            <a:ext cx="529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kind of art is called sculpture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396252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describe some ways that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ulp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like or not like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n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’t easily see from photographs like this, bu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ulpture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mens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y are not fl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ulptures can be measure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ight, width and dep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44FB-465D-4986-841D-FE99CF1542C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14600" y="990720"/>
            <a:ext cx="39625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35560" y="50760"/>
            <a:ext cx="66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ists have a purpose in making art, just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ors have a purpose in writing a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4480" y="3581280"/>
            <a:ext cx="81954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imagine what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ist’s 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is art work seem 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ative (telling a stor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o, what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id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tory it is tell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you write a story about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dd m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s about what he is doing or how he is feel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130-146C-4578-8386-DF82EB64E4C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305080" cy="3073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972160" y="609480"/>
            <a:ext cx="594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 objects of this type are c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t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am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sometimes ju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tery made in this form may be c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ss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w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733920"/>
            <a:ext cx="86788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you thi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rtist may have formed this p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enoug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is picture for you to predict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this pot may be?  Tell why. What would help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you thi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ist’s 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in making t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?  How could it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AE21-110C-4842-898B-4E507792044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4114800" cy="2673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19920" y="1219320"/>
            <a:ext cx="2000160" cy="2666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2400" y="4343400"/>
            <a:ext cx="867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imagine 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 you would fo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reate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 from c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tory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ould you tell if you made a sculp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plan to use the pot or bowl that you m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0240" y="228600"/>
            <a:ext cx="83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had a chance to make something from clay, w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rather make a sculpture or a pot or bowl?  Tell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306-19D3-45EB-8C06-82960EC8EF8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ha Burdette</cp:lastModifiedBy>
  <dcterms:modified xsi:type="dcterms:W3CDTF">2007-07-26T21:31:38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